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453A-BBA3-4D33-9AE5-DC7A6601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DFDA-72C8-4F87-8680-148E940C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29CC-0393-4D30-8248-08236D461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465F-55D5-4F47-8C31-9A86E0CC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4D15-1F7D-438A-8426-7876D695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1710-C804-4763-9A1A-A05CBC8E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9C04-852F-4CB5-9DCF-94B4B7FC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A30D-24A2-489C-9721-8D276F56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54FC-3488-4B10-820A-33C85BAB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7798-B334-4A20-B75A-B12E3666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190E-5A8F-4A1F-BF40-C259B1C0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72AC-20A1-4D4E-B70E-5FE61043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6D33-7CA4-4A12-B5DF-813044F8A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arren Willi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3429000" y="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2590920" y="11430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eek City- St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Documents and Settings\islpt137\My Documents\My Pictures\polis.jpg"/>
          <p:cNvPicPr/>
          <p:nvPr/>
        </p:nvPicPr>
        <p:blipFill>
          <a:blip r:embed="rId1"/>
          <a:stretch/>
        </p:blipFill>
        <p:spPr>
          <a:xfrm>
            <a:off x="0" y="1539720"/>
            <a:ext cx="914400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3429000" y="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1447920" y="114300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tudy of wisdom and the right way to l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Documents and Settings\islpt137\My Documents\My Pictures\philosophy.jpg"/>
          <p:cNvPicPr/>
          <p:nvPr/>
        </p:nvPicPr>
        <p:blipFill>
          <a:blip r:embed="rId1"/>
          <a:stretch/>
        </p:blipFill>
        <p:spPr>
          <a:xfrm>
            <a:off x="0" y="1949400"/>
            <a:ext cx="914400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3429000" y="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1447920" y="114300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rea of land nearly surrounded by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Documents and Settings\islpt137\My Documents\My Pictures\peninsula.jpg"/>
          <p:cNvPicPr/>
          <p:nvPr/>
        </p:nvPicPr>
        <p:blipFill>
          <a:blip r:embed="rId1"/>
          <a:stretch/>
        </p:blipFill>
        <p:spPr>
          <a:xfrm>
            <a:off x="0" y="1963800"/>
            <a:ext cx="914400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2362320" y="0"/>
            <a:ext cx="510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1447920" y="1143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ar between Athens and Spa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Documents and Settings\islpt137\My Documents\My Pictures\peloponnesian.jpg"/>
          <p:cNvPicPr/>
          <p:nvPr/>
        </p:nvPicPr>
        <p:blipFill>
          <a:blip r:embed="rId1"/>
          <a:stretch/>
        </p:blipFill>
        <p:spPr>
          <a:xfrm>
            <a:off x="0" y="1542960"/>
            <a:ext cx="91440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3429000" y="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1447920" y="114300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Documents and Settings\islpt137\My Documents\My Pictures\oligarchy.jpg"/>
          <p:cNvPicPr/>
          <p:nvPr/>
        </p:nvPicPr>
        <p:blipFill>
          <a:blip r:embed="rId1"/>
          <a:stretch/>
        </p:blipFill>
        <p:spPr>
          <a:xfrm>
            <a:off x="0" y="1976400"/>
            <a:ext cx="914400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3429000" y="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1447920" y="1143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heltered place along a coast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Documents and Settings\islpt137\My Documents\My Pictures\harbor.jpg"/>
          <p:cNvPicPr/>
          <p:nvPr/>
        </p:nvPicPr>
        <p:blipFill>
          <a:blip r:embed="rId1"/>
          <a:stretch/>
        </p:blipFill>
        <p:spPr>
          <a:xfrm>
            <a:off x="0" y="1549440"/>
            <a:ext cx="914400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C:\Documents and Settings\islpt137\My Documents\My Pictures\acropolis.jpg"/>
          <p:cNvPicPr/>
          <p:nvPr/>
        </p:nvPicPr>
        <p:blipFill>
          <a:blip r:embed="rId1"/>
          <a:stretch/>
        </p:blipFill>
        <p:spPr>
          <a:xfrm>
            <a:off x="0" y="1838160"/>
            <a:ext cx="914400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C:\Documents and Settings\islpt137\My Documents\My Pictures\agora.jpg"/>
          <p:cNvPicPr/>
          <p:nvPr/>
        </p:nvPicPr>
        <p:blipFill>
          <a:blip r:embed="rId1"/>
          <a:stretch/>
        </p:blipFill>
        <p:spPr>
          <a:xfrm>
            <a:off x="0" y="1486080"/>
            <a:ext cx="914400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2819520" y="45720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1143000" y="160020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ir 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islpt137\My Documents\My Pictures\assembly.jpg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3429000" y="53352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1371600" y="144792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Documents and Settings\islpt137\My Documents\My Pictures\citizen.jpg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3429000" y="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1447920" y="114300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economic ties with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ocuments and Settings\islpt137\My Documents\My Pictures\colony.jpg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"/>
          <p:cNvSpPr/>
          <p:nvPr/>
        </p:nvSpPr>
        <p:spPr>
          <a:xfrm>
            <a:off x="2971800" y="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2133720" y="91440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orm of government where people vote to make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Documents and Settings\islpt137\My Documents\My Pictures\democracy.jpg"/>
          <p:cNvPicPr/>
          <p:nvPr/>
        </p:nvPicPr>
        <p:blipFill>
          <a:blip r:embed="rId1"/>
          <a:stretch/>
        </p:blipFill>
        <p:spPr>
          <a:xfrm>
            <a:off x="0" y="1932120"/>
            <a:ext cx="914400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3429000" y="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1447920" y="114300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hear evidence and make decisions in a court of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Documents and Settings\islpt137\My Documents\My Pictures\jury.jpg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3048120" y="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752480" y="762120"/>
            <a:ext cx="54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headed by one ru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Documents and Settings\islpt137\My Documents\My Pictures\monarchy.jpg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21:01:19Z</dcterms:modified>
  <cp:revision>92</cp:revision>
  <dc:subject/>
  <dc:title>Ancient Greece</dc:title>
</cp:coreProperties>
</file>